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0AC-3891-4EC2-A24D-C52F329B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625-D833-4BDB-B397-E67FDA04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7BE-CF80-4F94-A926-35E7433F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D5D-40CE-4BB5-9EA9-64FDCB35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ED37-45A3-43C6-AAFC-4DA287ED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14D3-63B4-4862-8F37-AB66CA67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427B-0E58-4A93-A0D1-8386C9EC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A36F-553A-411C-AFAC-3624E587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EDF1-0AC6-424E-84C8-FB8E10E0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1FAF-E8BE-44C7-8828-47DFF771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4E11-EEA4-4DCA-99FF-B65A3B9F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788-C620-4803-AB39-369DA886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0409-FD67-4A9B-B814-C867ECA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C36F-3D92-440E-AF2A-AE33AA6E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E78F-AA95-414F-8F8D-E4CABEC7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8888-6C78-4796-9514-B4D37870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A2BE-8ECB-4CE2-BD94-02BD628A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436-9FF7-4D40-B411-98ADDCB5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773-DFF2-4A23-8424-A696C38F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FCD-B0F7-4112-B60F-84454C9F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9BE-1D59-48EA-BE3D-39032F23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A94-5263-4C80-B1FC-0671282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FA4-6E9F-458C-981E-3ED6743C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5B1-AFDE-4FD5-9BC1-F5F15A88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0954-37C2-416E-927B-74077AD9365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A58C-00D2-4C5E-8392-189DFD13111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Judges 6:1 – 8: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3; Lesson 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68-7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429000"/>
            <a:ext cx="8076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Gather Against Isra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33-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ianites, and others east of Jordan, came across the Jordan to the valley of Jezreel, v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pirit of the Lord came upon Gideon and he blew the “call” trumpet, v3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, Manasseh and other northern tribes met Gideon, v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114800" cy="2664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380880" y="2971800"/>
            <a:ext cx="3152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boa View of Jezree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673880" cy="3490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3809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arod Valley of Jezr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28600" y="3395520"/>
            <a:ext cx="3638520" cy="3462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4648320" y="4194000"/>
            <a:ext cx="3657600" cy="2664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0880" y="990720"/>
            <a:ext cx="1676520" cy="5486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162920" y="1676520"/>
            <a:ext cx="1371600" cy="4114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d Gives Gideon 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confirmation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ould save Israel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6:36-4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spoke to Go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ill put a fleece of wool on the flo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rst sig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If dew is on the fleece but not on the flo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sig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If dew is on the floor but not on t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224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:1-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rted with 32,000 men in his ar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aid he had too many men, v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00 Men And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lessons do we learn from these numbers and these test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Romans 8:3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parations For The Atta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7:9-18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told to go to the Midianite camp and listen, v9-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built up his confidence, v13-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n, his strategy, v16-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told his army: “Do as I do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24004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attle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7:19-2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s army followed his instructions 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tacked after the night watch chang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ew the trumpe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ke the pitchers revealing the lam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ed, “The sword of the Lord and of Gideon, v19-2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confusion, the Midianites slaughtered each other.  The rest ran, but were pursued.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22-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48040" cy="3048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Victory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:24 - 8: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ssage sent to Ephraimites 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op the Midianites passage over the Jordan Riv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ptured 2 leaders of the Midianites and cut off their heads, 24-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, the Ephraimites complain, 8: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: Isn’t the gleaning of Ephraim better than the harvest of Abiezer?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lain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8:2-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el oppressed by the Midianites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6:1-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hovah hears Israel’s cry, v7-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Cal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Destroys The Altar of Ba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ianites Gather Against Isra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Gives Gideon Sig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Prepares His Ar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attle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7:19-2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Victory (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7:24 - 8: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oppressed by the Midianite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6:1-6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el was evil in the sight of the Lord, v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 years of oppression, v1-3 &amp; 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ed in dens and caves, v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y poor people, v4 &amp; 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ember the cycle - Judges 2:14-1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– Who Were The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ian, Son of Abraham and Ketura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es fled to the land of Mid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es married Zipporah, a Midiani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ined Moab in trying to curse Isra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il influence on Israel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slaughtered the Midianites earl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d located in the western part of the Arabian desert; south of E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290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Land of M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95480" y="5715000"/>
            <a:ext cx="914400" cy="8380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715000"/>
            <a:ext cx="533520" cy="8380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Oph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1600200"/>
            <a:ext cx="762120" cy="12952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Valley of Jezr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200040" y="1905120"/>
            <a:ext cx="1600200" cy="91440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7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hovah hears Israel’s cry, v7-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ent a proph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inds them of former delivera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ngel of God called Gideon to save Israel, v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-15840"/>
            <a:ext cx="830592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– Who Was 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fth recorded judge 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ter called “Jerubbaal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ngest son of Joash of the Abiezrites (tribe of Manasse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ved in Ophrah, probably in the territory of Issachar, west of the Jordan Ri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ighty man of valor (brave); humble; obedient; cauti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Call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11-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ngel of the Lord appeared to him, v11-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could not understand how a poor man like him could save Israel – humble, v15-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asked for a sign – being cautious, v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given a sign, v18-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altar as a memorial, v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Destroys The Altar of Ba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ord sai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troy your father’s altar of Baal and to cut down the pole of Ashtaro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:2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ild an altar to God and offer your  father’s bullock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:2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obeys the Lord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2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ty found Gideon responsible for damage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28-3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ash challenged Baal to punish Gideon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31-3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called “Jerubbaal” – “Baal fighter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9:43:27Z</dcterms:created>
  <dc:creator>Frank D Vines</dc:creator>
  <dc:description/>
  <dc:language>en-US</dc:language>
  <cp:lastModifiedBy>Terry Benton</cp:lastModifiedBy>
  <dcterms:modified xsi:type="dcterms:W3CDTF">2005-02-08T23:07:01Z</dcterms:modified>
  <cp:revision>26</cp:revision>
  <dc:subject/>
  <dc:title>Slide 1</dc:title>
</cp:coreProperties>
</file>